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B348-0B32-49D6-B09C-4B7F0413E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2720-4702-479C-978B-54DC136E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B561-8F2E-4074-A3F9-143F128C3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BF27-0ACB-41CA-A72F-723FB45FF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E579-7380-4B4C-9BB8-EB88528A6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6739-D4FD-4917-B9EB-A3A21D36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F182-09E2-4A6D-BFB1-25240BB5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06F2-D95A-4635-B140-8497DB33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33B0-1D47-435E-8899-574AF849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9F9C-BD66-44B2-AEFF-C84722AA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2B13-7A5B-44D6-A12B-3A5B8825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0762-4538-4ED4-90A6-BDA4E6E2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6EB8-62DC-4298-818B-ED046E56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11E6-F760-4DB8-8949-264801A9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A98E-FA57-439C-B636-18977D16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E2EA-AB66-45B3-98E8-C709461D9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4524-6D25-4174-ABC4-330F0E62E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9118-50A1-454F-B0CB-B25F7881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50FA-6493-4D7B-B12E-6FFB8C47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00AB-6994-4A91-BEA1-5EF9A642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4E8A-A299-4BA6-91B5-58590B81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4FDF-9B6B-4A18-8CF5-1B8B5683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0514-380E-40B7-AABC-42E79902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D599-B9B0-48C7-84CF-834B93AF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6B5F-110E-4D59-A04C-8865B4F7F42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E2D7-7DF1-405A-949D-817A278A196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2000" y="299736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Рекомендации по оформлению списка литературы для курсовых и дипломных работ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68706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В зависимости от структуры описания различают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дноуровнево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библиографическое описание – это описание одного отдельно взятого документа (монографии, учебника, справочника, сборника статей, архивного документа и т.д.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многоуровнево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библиографическое описание – это описание многочастного документа (многотомное издание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налитическо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библиографическое описание – это описание части документа (статья из периодического издания или сборника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7040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Краткая схема одноуровневого библиографического описания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2803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Заголовок описани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Основное заглави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[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Общее обозначение материла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5" action="ppaction://hlinksldjump"/>
              </a:rPr>
              <a:t>]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Comic Sans MS"/>
                <a:hlinkClick r:id="rId6" action="ppaction://hlinksldjump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: сведения, относящиеся к заглавию / сведения об ответственности. – Сведения об издании. – Выходные данные. – Физическая характеристика. – Область сер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Алексеева, Е.В. Архивоведение [Текст] : учебник / Е.В. Алексеева, Л.П. Афанасьева, Е.М. Бурова ; под ред. проф. В.П. Козлова. – 2-е изд., стер. – М. : ПрофОбрИздат, 2002. – 271 с. – (Профессиональное образование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7885080" y="6021360"/>
            <a:ext cx="432000" cy="549360"/>
          </a:xfrm>
          <a:prstGeom prst="downArrow">
            <a:avLst>
              <a:gd name="adj1" fmla="val 50000"/>
              <a:gd name="adj2" fmla="val 3179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Автор. Заглавие : сведения, относящиеся к заглавию (см. на титуле) / сведения об ответственности (авторы ; редакторы; переводчики; художники). – Сведения об издании (номер издания, информация о переиздании). – Место издания : Издательство, год издания. – Объем. – (Серия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7667640" y="5734080"/>
            <a:ext cx="289080" cy="647640"/>
          </a:xfrm>
          <a:prstGeom prst="downArrow">
            <a:avLst>
              <a:gd name="adj1" fmla="val 50000"/>
              <a:gd name="adj2" fmla="val 5600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6870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Заголовок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Семенов, А.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Вайнер, А.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Сент-Экзюпери, Антуан д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Переля, Осм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ГОСТ 7.1-2003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7596360" y="6453360"/>
            <a:ext cx="792000" cy="215640"/>
          </a:xfrm>
          <a:prstGeom prst="rightArrow">
            <a:avLst>
              <a:gd name="adj1" fmla="val 50000"/>
              <a:gd name="adj2" fmla="val 9182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Основное заглавие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Справочник по кадровому делопроизводств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История древнего ми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Организация работы с документа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География мира. Материки. Страны. Народ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>
            <a:hlinkClick r:id="rId1" action="ppaction://hlinksldjump"/>
          </p:cNvPr>
          <p:cNvSpPr/>
          <p:nvPr/>
        </p:nvSpPr>
        <p:spPr>
          <a:xfrm>
            <a:off x="7596360" y="6453360"/>
            <a:ext cx="792000" cy="215640"/>
          </a:xfrm>
          <a:prstGeom prst="rightArrow">
            <a:avLst>
              <a:gd name="adj1" fmla="val 50000"/>
              <a:gd name="adj2" fmla="val 9182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19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Общее обозначение материал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Кадры предприятия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Текст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Оценка стоимости земельных участков [Электронный ресурс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Ave Maria [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Ноты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7596360" y="6453360"/>
            <a:ext cx="792000" cy="215640"/>
          </a:xfrm>
          <a:prstGeom prst="rightArrow">
            <a:avLst>
              <a:gd name="adj1" fmla="val 50000"/>
              <a:gd name="adj2" fmla="val 9182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Сведения, относящиеся к заглавию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Защита растений : учебное пособ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Болезни и вредители растений : атлас-определите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Архивное дело : сборник федеральных нор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6381720"/>
            <a:ext cx="865080" cy="216000"/>
          </a:xfrm>
          <a:prstGeom prst="rightArrow">
            <a:avLst>
              <a:gd name="adj1" fmla="val 50000"/>
              <a:gd name="adj2" fmla="val 100125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1992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Сведения об ответственности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/ сост. Т.В. Захарчук, О.М. Зусьма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/ Е.В. Алексеева, Л.П. Афанасьева, Е.М. Бурова ; под ред. проф. В.П. Козло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/ под ред. проф. А.Г. Грязновой, М.А. Федотовой ; Финансовая академия при Правительстве РФ, Институт профессиональной оцен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/ Вильгельм Гауф ; пер с нем. М. Салье, А. Любарской ; худож. В. Смирн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/ В.Н. Винокуров, В.Е. Демкин, В.Г. Маркин и др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7596360" y="6453360"/>
            <a:ext cx="792000" cy="215640"/>
          </a:xfrm>
          <a:prstGeom prst="rightArrow">
            <a:avLst>
              <a:gd name="adj1" fmla="val 50000"/>
              <a:gd name="adj2" fmla="val 9182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68706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Сведения об издании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5-е изд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7-е изд., сте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2-е изд., испр. и доп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7596360" y="6453360"/>
            <a:ext cx="792000" cy="215640"/>
          </a:xfrm>
          <a:prstGeom prst="rightArrow">
            <a:avLst>
              <a:gd name="adj1" fmla="val 50000"/>
              <a:gd name="adj2" fmla="val 9182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Выходные данные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СПб. : Профессия, 200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М. : Академия, 200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Минск : Новые знания, 201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М., СПб. : Наука, 200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М. : АСТ : Академия, 200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Москва – 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Санкт-Петербург – СПб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Ростов-на-Дону – Ростов н/Д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Нижний Новгород – Н. Новгород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>
            <a:hlinkClick r:id="rId1" action="ppaction://hlinksldjump"/>
          </p:cNvPr>
          <p:cNvSpPr/>
          <p:nvPr/>
        </p:nvSpPr>
        <p:spPr>
          <a:xfrm>
            <a:off x="7596360" y="6453360"/>
            <a:ext cx="792000" cy="215640"/>
          </a:xfrm>
          <a:prstGeom prst="rightArrow">
            <a:avLst>
              <a:gd name="adj1" fmla="val 50000"/>
              <a:gd name="adj2" fmla="val 9182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549360"/>
            <a:ext cx="7696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35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писок литературы представляет собой перечень библиографических описаний произведений печати или их составных частей, выстроенных в каком-либо порядке (алфавите авторов или заглавий, в порядке очередности ссылок на издание и т.д.)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440" indent="35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писок содержит источники, используемые в процессе подготовки текста: цитируемые, упоминаемые, а также имеющие непосредственное отношение к исследуемой тем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6870600" cy="12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Область физической характеристик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547 с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255 с. : и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1 электрон. опт. диск : зв., ц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- 166 с. : ил. +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7596360" y="6453360"/>
            <a:ext cx="792000" cy="215640"/>
          </a:xfrm>
          <a:prstGeom prst="rightArrow">
            <a:avLst>
              <a:gd name="adj1" fmla="val 50000"/>
              <a:gd name="adj2" fmla="val 9182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Область серии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(Профессиональное образование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(Высшее профессиональное образование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(Профессия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7596360" y="6453360"/>
            <a:ext cx="792000" cy="215640"/>
          </a:xfrm>
          <a:prstGeom prst="rightArrow">
            <a:avLst>
              <a:gd name="adj1" fmla="val 50000"/>
              <a:gd name="adj2" fmla="val 9182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68706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Нормативные документы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ГОСТ 17608–91. Плиты бетонные тротуарные. Технические условия [Текст]. – Введ. 1992–01–01. – М. : ГУП ЦПП, 1991. – 38 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ГОСТ Р 6.30–2003. Унифицированные системы документации. Унифицированная система организационно-распорядительной документации. Требования к оформлению документов. [Текст]. – Введ. 2003–03–03. – М. : Госстандарт России, 2003. – 17 с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74170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Неопубликованные документы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Методические указания по сбору коллекционного гербария / сост. И.В. Бритова ; ГОУ СПО СО НТСТ. – Нижний Тагил, 2007. – 14 с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Аналитическое библиографическое описани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ведения о составной (глава, статья) части документа // Сведения об идентифицирующем (основном) документе. – Сведения о местоположении составной (статьи, главы) части в документе. – Примечания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5800" y="259920"/>
            <a:ext cx="769608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татья из книг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Инструкция о порядке заполнения паспорта архива [Текст] // Архивное дело : сборник федеральных норм / ред. А.С. Колыванов. – М. : Книга сервис, 2003. – С. 185 – 19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Бердяев, Н.А. Мистика. Ее противоречия и достижения [Текст] / Н.А. Бердяев // Хрестоматия по философии : учебное пособие / сост. проф. П.В. Алексеев, А.В. Панин. – М. : Проспект, 1997. – С.267–285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татья из сериального изда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Филатова, О.М. Порядок расчета средней численности работников [Текст] / О.М. Филатова // Справочник кадровика. – 2009. – № 11. – С. 29–38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Бахмат, С.А. Профессиональная самореализация студентов колледжа в условиях монопрофильного города [Текст] / С.А. Бахмат // Среднее профессиональное образование. – 2009. – № 9. – С. 15–19. – Библиогр. : с. 18–19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6870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Электронный ресур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есурсы локального доступа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Костина, А.В. Основы рекламы [Электронный ресурс] : электронный учебник / А.В. Костина, Э.Ф. Макаревич, О.И. Карпухин.– М. : КНОРУС, 2009.– 1 электрон. опт. диск : зв., цв. – (Информационные технологии в образовании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Даль, В.И. Толковый словарь живого великорусского языка Владимира Даля [Электронный ресурс] / В.И. Даль. – М. : АСТ, 1998. – 1 электрон. опт. диск (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ROM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5555 шедевров мировой живописи [Электронный ресурс]. – М. : ООО "ДиректМедиа Паблишинг", 2003. – 1 электрон. опт. диск (CD-ROM) : цв. – (Электронная библиотека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5800" y="404640"/>
            <a:ext cx="769608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тевые ресурсы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Куратов, А.А. Кафедра истории Поморского государственного университета [Электронный ресурс] / А.А. Куратов. – Режим доступа: http://hist.pomorsu.ru/history.html. – 01.09.2009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Единое окно доступа к образовательным ресурсам: портал [Электронный ресурс]. – Режим доступа: http://window.edu.ru. – 01.09.2009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68706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Многоуровневое описание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89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втор. Заглавие источника : данные, относящиеся к заглавию (приведены на титульном листе) / данные об авторстве ; дополнительные данные об авторстве. – Город издания : Издательство, Год начала издания – год окончания издания. – (Серия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89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омер тома : Заглавие тома : данные, относящиеся к заглавию. – Год издания тома. – Объем (печатных листов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89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омер тома : Заглавие тома : данные, относящиеся к заглавию. – Год издания тома. – Объем (печатных листов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89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 т.д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85800" y="764640"/>
            <a:ext cx="769608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иппиус, З. Н. Сочинения [Текст] : в 2 т. / Зинаида Гиппиус. – М. : Лаком-книга, 2001. – (Золотая проза серебряного века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. 1 : Романы. – 367 с. – Содерж.: Без талисмана; Победители; Сумерки дух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. 2 : Романы. – 415 с. – Содерж.: Чертова кукла ; Жизнеописание в 33 гл. ; Роман-царевич : история одного начинания ; Чужая любов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4920" y="1557360"/>
            <a:ext cx="828036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 ГОСТ 7.32–2001 Отчет о научно-исследовательской работе. Структура и правила оформления список литературы должен называть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«Список использованных источников»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000" y="1341360"/>
            <a:ext cx="6870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Благодарю за внимание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817236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 списку литературы предъявляются требования, обозначенные следующими стандартами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696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ГОСТ 7.1–2003 Библиографическая запись. Библиографическое описание. Общие требования и правила составлени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ГОСТ 7.80–2000 Библиографическая запись. Заголовок. Общие требования и правила составлени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ГОСТ 7.82–2001 Библиографическая запись. Библиографическое описание  электронных ресурсов. Общие требования и правила составлени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ГОСТ 7.32–2001 Отчет о научно-исследовательской работе. Структура и правила оформлени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ГОСТ 7.12–93 Библиографическая запись. Сокращение слов на русском языке. Общие требования и правил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ГОСТ 2.105–95 Единая система конструкторской документации. Общие требования к текстовым документа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ГОСТ 7.9–95 (ИСО 214-76) Система стандартов по информации, библиотечному и издательскому делу. Реферат и аннотация. Общие требовани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763272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Структура списка использованных источник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69608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едлагаются следующие варианты расположения литературы в списке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алфавитный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предметно-тематический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 логический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 хронологический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 по видам документ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921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Устоявшимся правилом можно считать следующий порядок расположения источников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55640" y="2133720"/>
            <a:ext cx="7237440" cy="41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ормативные акты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ниг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чатная периодик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сточники на электронных носителях локального доступ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сточники на электронных носителях удаленного доступа (т.е. Интернет-источники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065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Нормативные акты располагаются в следующем порядке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58560" y="1412640"/>
            <a:ext cx="7489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международные акты, ратифицированные Россией, причем сначала идут документы ООН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онституция Росси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одексы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федеральные законы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указы Президента Росси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становления Правительства Росси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казы, письма и пр. указания отдельных федеральных министерств и ведомств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законы субъектов Росси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аспоряжения губернаторов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аспоряжения областных (республиканских) правительств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удебная практика (т.е. постановления Верховного и прочих судов России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законодательные акты, утратившие сил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5800" y="1483920"/>
            <a:ext cx="769608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Библиографическое описание в ссылках и списках литературы составляется на основе действующего с 1 июля 2004 г. в РФ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ГОСТ 7.1–2003 Библиографическая запись. Библиографическое описание. Общие требования и правила составления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800" y="764640"/>
            <a:ext cx="769608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и составлении библиографического описания в целях обеспечения его компактности можно применять сокращения слов и словосочетаний, согласно ГОСТ 7.12–93 Сокращение слов на русском языке. Общие требования и правил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нифицированные формы сокращений: и другие – и др.; и так далее – и т.д.; то есть – т.е.; без места – б.м.; без издателя – б.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05:17:50Z</dcterms:created>
  <dc:creator>Biblioteka</dc:creator>
  <dc:description/>
  <dc:language>en-US</dc:language>
  <cp:lastModifiedBy>Biblioteka</cp:lastModifiedBy>
  <dcterms:modified xsi:type="dcterms:W3CDTF">2010-03-02T04:58:39Z</dcterms:modified>
  <cp:revision>33</cp:revision>
  <dc:subject/>
  <dc:title>Рекомендации по оформлению списка литературы для курсовых и дипломных работ</dc:title>
</cp:coreProperties>
</file>